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1E2-18CA-4687-A54C-0690CACD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6A9-8558-4AEA-9AC0-6503742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D86-15D9-4DD1-AC7E-91B3C495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8DD-48B0-43E7-928D-C724F7F9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0D2-023F-4583-93A5-F210747F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6DA-B050-4C63-93C9-57199110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8E1-0A40-4B30-8DFE-4522C220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791-C30A-4336-A31B-33B6C29D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73B-5335-4F9F-9DD7-CD69E2D3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092D-2AAD-4D62-BEA7-28E8B33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981-F9B3-4368-B4BD-F2EF3DC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678-0578-40D5-9ECA-1667E39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6EAC-6700-44FF-9554-9C6B0E264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ismology.harvard.edu/CMTsearch.html" TargetMode="External"/><Relationship Id="rId2" Type="http://schemas.openxmlformats.org/officeDocument/2006/relationships/hyperlink" Target="http://www.iris.edu/" TargetMode="External"/><Relationship Id="rId3" Type="http://schemas.openxmlformats.org/officeDocument/2006/relationships/hyperlink" Target="http://geoscope.ipgp.jussieu.fr/" TargetMode="External"/><Relationship Id="rId4" Type="http://schemas.openxmlformats.org/officeDocument/2006/relationships/hyperlink" Target="http://www.orfeus-eu.org/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ea18"/>
                </a:solidFill>
                <a:latin typeface="Times New Roman"/>
              </a:rPr>
              <a:t>Calculation of Synthetic Seismograms and Surface wave Phase velocities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AN-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731040"/>
            <a:ext cx="746748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600" rIns="120600" tIns="60120" bIns="60120" anchor="b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Yann Capdeville, Jean-Paul Montagner, Ylong Q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1208160"/>
                <a:tab algn="l" pos="2416320"/>
                <a:tab algn="l" pos="3624120"/>
                <a:tab algn="l" pos="4832280"/>
                <a:tab algn="l" pos="6040440"/>
                <a:tab algn="l" pos="7248600"/>
                <a:tab algn="l" pos="8456760"/>
                <a:tab algn="l" pos="9664560"/>
                <a:tab algn="l" pos="10872720"/>
              </a:tabLst>
            </a:pPr>
            <a:r>
              <a:rPr b="0" lang="en-US" sz="2400" spc="-1" strike="noStrike">
                <a:solidFill>
                  <a:srgbClr val="ffea18"/>
                </a:solidFill>
                <a:latin typeface="Arial"/>
              </a:rPr>
              <a:t>Dept. Sismologie, I.P.G., Paris; F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56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0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610480" cy="76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tt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  (+ 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requencie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Eigenfunctions: 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(r,t)= |n,l,m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3 quantum numbers (k={n,l,m}) =&gt;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∫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.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x = 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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isplacement: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,l,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 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ea18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 baseline="30000">
                <a:solidFill>
                  <a:srgbClr val="ffea18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 |n,l,m&gt; exp(-i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r,t)= {U( 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V(r )/</a:t>
            </a:r>
            <a:r>
              <a:rPr b="0" lang="en-US" sz="2000" spc="-1" strike="noStrike">
                <a:solidFill>
                  <a:srgbClr val="ffea18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+ {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- W(r ) 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ea18"/>
                </a:solidFill>
                <a:latin typeface="Arial"/>
              </a:rPr>
              <a:t>∂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} Y</a:t>
            </a:r>
            <a:r>
              <a:rPr b="0" lang="en-US" sz="2800" spc="-1" strike="noStrike" baseline="-25000">
                <a:solidFill>
                  <a:srgbClr val="ffea18"/>
                </a:solidFill>
                <a:latin typeface="Arial"/>
              </a:rPr>
              <a:t>l</a:t>
            </a:r>
            <a:r>
              <a:rPr b="0" lang="en-US" sz="2800" spc="-1" strike="noStrike" baseline="30000">
                <a:solidFill>
                  <a:srgbClr val="ffea18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ea18"/>
                </a:solidFill>
                <a:latin typeface="Symbol"/>
                <a:ea typeface="Symbol"/>
              </a:rPr>
              <a:t>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99080" y="1363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rem_color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57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Times New Roman"/>
              </a:rPr>
              <a:t>Seismic Source and Structure  Studies</a:t>
            </a:r>
            <a:br>
              <a:rPr sz="2800"/>
            </a:b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,t) =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( r ) cos 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 /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 baseline="30000">
                <a:solidFill>
                  <a:srgbClr val="ffea18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 exp(-</a:t>
            </a:r>
            <a:r>
              <a:rPr b="0" lang="en-US" sz="3200" spc="-1" strike="noStrike">
                <a:solidFill>
                  <a:srgbClr val="ffea1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t/2Q) (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ea18"/>
                </a:solidFill>
                <a:latin typeface="Times New Roman"/>
              </a:rPr>
              <a:t>.F</a:t>
            </a:r>
            <a:r>
              <a:rPr b="0" lang="en-US" sz="3200" spc="-1" strike="noStrike">
                <a:solidFill>
                  <a:srgbClr val="ffea18"/>
                </a:solidFill>
                <a:latin typeface="Times New Roman"/>
              </a:rPr>
              <a:t>)</a:t>
            </a:r>
            <a:r>
              <a:rPr b="1" lang="en-US" sz="3200" spc="-1" strike="noStrike" baseline="-25000">
                <a:solidFill>
                  <a:srgbClr val="ffea18"/>
                </a:solidFill>
                <a:latin typeface="Times New Roman"/>
              </a:rPr>
              <a:t>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ource Term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.F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= (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: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Seismic moment tensor,</a:t>
            </a:r>
            <a:r>
              <a:rPr b="1" lang="en-US" sz="28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5f528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e5f528"/>
                </a:solidFill>
                <a:latin typeface="Times New Roman"/>
              </a:rPr>
              <a:t> deformation t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eismology.harvard.edu/CMTsearch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Data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iris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geoscope.ipgp.jussieu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orfeus-eu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rcRect l="8051" t="0" r="0" b="0"/>
          <a:stretch/>
        </p:blipFill>
        <p:spPr>
          <a:xfrm rot="16200000">
            <a:off x="6147360" y="3224520"/>
            <a:ext cx="30481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4720" y="68580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Calculation of Rayleigh wave Phase veloc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1080" y="2070000"/>
            <a:ext cx="618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t) = ∫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-∞</a:t>
            </a:r>
            <a:r>
              <a:rPr b="0" lang="en-US" sz="2400" spc="-1" strike="noStrike" baseline="30000">
                <a:solidFill>
                  <a:srgbClr val="e5f528"/>
                </a:solidFill>
                <a:latin typeface="Times New Roman"/>
              </a:rPr>
              <a:t>+∞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A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exp{-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t-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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}d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421080"/>
            <a:ext cx="73692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The total phase is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+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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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source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</a:t>
            </a:r>
            <a:r>
              <a:rPr b="0" lang="en-US" sz="2400" spc="-1" strike="noStrike">
                <a:solidFill>
                  <a:srgbClr val="e5f528"/>
                </a:solidFill>
                <a:latin typeface="Arial"/>
              </a:rPr>
              <a:t> instrumental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=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-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e5f528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)   =&gt;     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c(</a:t>
            </a:r>
            <a:r>
              <a:rPr b="0" lang="en-US" sz="3200" spc="-1" strike="noStrike">
                <a:solidFill>
                  <a:srgbClr val="e5f528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e5f528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055520"/>
            <a:ext cx="6597720" cy="509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3880" y="152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s: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nms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synthetic seismogram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filter_qin</a:t>
            </a: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station_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20600" y="684360"/>
            <a:ext cx="7101000" cy="548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76880" y="1364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528"/>
                </a:solidFill>
                <a:latin typeface="Times New Roman"/>
              </a:rPr>
              <a:t>Code </a:t>
            </a:r>
            <a:r>
              <a:rPr b="1" lang="en-US" sz="2400" spc="-1" strike="noStrike">
                <a:solidFill>
                  <a:srgbClr val="e5f528"/>
                </a:solidFill>
                <a:latin typeface="Times New Roman"/>
              </a:rPr>
              <a:t>vphase_q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25080" y="228600"/>
            <a:ext cx="67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This code can be easily general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9264" r="0" b="9264"/>
          <a:stretch/>
        </p:blipFill>
        <p:spPr>
          <a:xfrm>
            <a:off x="1447920" y="1355760"/>
            <a:ext cx="6172200" cy="388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41280" y="5867280"/>
            <a:ext cx="79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528"/>
                </a:solidFill>
                <a:latin typeface="Times New Roman"/>
              </a:rPr>
              <a:t>You can start to make sc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5:51:20Z</dcterms:created>
  <dc:creator>claude allegre</dc:creator>
  <dc:description/>
  <dc:language>en-US</dc:language>
  <cp:lastModifiedBy>claude allegre</cp:lastModifiedBy>
  <dcterms:modified xsi:type="dcterms:W3CDTF">2005-09-05T09:40:30Z</dcterms:modified>
  <cp:revision>11</cp:revision>
  <dc:subject/>
  <dc:title>PowerPoint Presentation</dc:title>
</cp:coreProperties>
</file>